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0EC3-9639-417C-8E83-1404F414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90F-6407-4338-9E2F-C0442782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0FB-B80F-45B5-A63F-E23EB73B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BEF-1C49-4B1F-A3B9-76A5593F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E264-B14F-48C4-B0F0-2BF66055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FB6-53B9-43D4-94D6-3A8DD1C4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596-378D-4D9D-84E4-5F731B27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DFD5-6BFE-4C85-A6AD-97C67529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46F-3CBC-4635-983A-D9272569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105-5588-445C-B9AC-D5995B37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0B7-16C3-4B7F-B16F-83FC27D3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A68-DE15-4253-910A-8633FE8F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4962-F2AB-49EE-B3C4-9DDE723D4B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28600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71680" y="78588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实验活动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1    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氧气的实验室制取与性质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3186720" y="175248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用高锰酸钾制氧气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952880" cy="35337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4"/>
          <p:cNvSpPr/>
          <p:nvPr/>
        </p:nvSpPr>
        <p:spPr>
          <a:xfrm>
            <a:off x="4876920" y="1071720"/>
            <a:ext cx="4267080" cy="1062000"/>
          </a:xfrm>
          <a:prstGeom prst="wedgeRoundRectCallout">
            <a:avLst>
              <a:gd name="adj1" fmla="val -44791"/>
              <a:gd name="adj2" fmla="val 109111"/>
              <a:gd name="adj3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试管口要向下倾斜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防止冷凝水倒流，使试管炸裂。）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295280" y="838080"/>
            <a:ext cx="2743200" cy="1600200"/>
          </a:xfrm>
          <a:prstGeom prst="wedgeRoundRectCallout">
            <a:avLst>
              <a:gd name="adj1" fmla="val 80384"/>
              <a:gd name="adj2" fmla="val 77578"/>
              <a:gd name="adj3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试管内的导管稍微露出橡皮塞即可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便于气体的排出。）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3733920" y="3886200"/>
            <a:ext cx="2057400" cy="1295280"/>
          </a:xfrm>
          <a:prstGeom prst="wedgeRoundRectCallout">
            <a:avLst>
              <a:gd name="adj1" fmla="val -27777"/>
              <a:gd name="adj2" fmla="val -105268"/>
              <a:gd name="adj3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铁夹应夹在离试管口约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/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处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228600" y="3276720"/>
            <a:ext cx="2362320" cy="1295280"/>
          </a:xfrm>
          <a:prstGeom prst="wedgeRoundRectCallout">
            <a:avLst>
              <a:gd name="adj1" fmla="val 64314"/>
              <a:gd name="adj2" fmla="val -58824"/>
              <a:gd name="adj3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要用酒精灯火焰的外焰对准药品部位加热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5306040" y="1875600"/>
            <a:ext cx="3027240" cy="2662560"/>
            <a:chOff x="5306040" y="1875600"/>
            <a:chExt cx="3027240" cy="2662560"/>
          </a:xfrm>
        </p:grpSpPr>
        <p:sp>
          <p:nvSpPr>
            <p:cNvPr id="119" name="AutoShape 9"/>
            <p:cNvSpPr/>
            <p:nvPr/>
          </p:nvSpPr>
          <p:spPr>
            <a:xfrm rot="4053000">
              <a:off x="5898600" y="1949400"/>
              <a:ext cx="1841400" cy="2514600"/>
            </a:xfrm>
            <a:prstGeom prst="wedgeRoundRectCallout">
              <a:avLst>
                <a:gd name="adj1" fmla="val -56087"/>
                <a:gd name="adj2" fmla="val 69583"/>
                <a:gd name="adj3" fmla="val 16667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5638680" y="26431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管口要放一团棉花（防止高锰酸钾粉末进入导管）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1" name="Text Box 12"/>
          <p:cNvSpPr/>
          <p:nvPr/>
        </p:nvSpPr>
        <p:spPr>
          <a:xfrm>
            <a:off x="457200" y="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易出错的地方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285840" y="1500120"/>
            <a:ext cx="8643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试管口略向下倾斜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防止冷凝水倒流引起试管破裂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药品平铺在试管的底部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均匀受热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铁夹夹在离管口约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/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处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导管应稍露出橡皮塞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便于气体排出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⑤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试管口应放一团棉花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防止高锰酸钾粉末进入导管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⑥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水法收集时，待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气泡均匀连续冒出时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再收集（刚开始排出的是试管中的空气）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⑦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实验结束时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移导管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再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熄灭酒精灯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防止水倒吸引起试管破裂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⑧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向上排空气法收集气体时，导管伸到集气瓶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底部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矩形 2"/>
          <p:cNvSpPr/>
          <p:nvPr/>
        </p:nvSpPr>
        <p:spPr>
          <a:xfrm>
            <a:off x="571680" y="357120"/>
            <a:ext cx="36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意事项：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617120" y="15408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验装置选择（发生装置和收集装置）：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Picture 3" descr="pic_48615"/>
          <p:cNvPicPr/>
          <p:nvPr/>
        </p:nvPicPr>
        <p:blipFill>
          <a:blip r:embed="rId1"/>
          <a:srcRect l="29900" t="1012" r="45980" b="80907"/>
          <a:stretch/>
        </p:blipFill>
        <p:spPr>
          <a:xfrm>
            <a:off x="609480" y="4114800"/>
            <a:ext cx="2382840" cy="25146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654120" y="92880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生装置的选择依据：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7" name="Group 6"/>
          <p:cNvGrpSpPr/>
          <p:nvPr/>
        </p:nvGrpSpPr>
        <p:grpSpPr>
          <a:xfrm>
            <a:off x="3981600" y="1345680"/>
            <a:ext cx="4381200" cy="1879920"/>
            <a:chOff x="3981600" y="1345680"/>
            <a:chExt cx="4381200" cy="1879920"/>
          </a:xfrm>
        </p:grpSpPr>
        <p:sp>
          <p:nvSpPr>
            <p:cNvPr id="128" name="AutoShape 7"/>
            <p:cNvSpPr/>
            <p:nvPr/>
          </p:nvSpPr>
          <p:spPr>
            <a:xfrm rot="291600">
              <a:off x="4038480" y="1523520"/>
              <a:ext cx="4267440" cy="1523880"/>
            </a:xfrm>
            <a:prstGeom prst="wedgeEllipseCallout">
              <a:avLst>
                <a:gd name="adj1" fmla="val -54351"/>
                <a:gd name="adj2" fmla="val 76041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Text Box 8"/>
            <p:cNvSpPr/>
            <p:nvPr/>
          </p:nvSpPr>
          <p:spPr>
            <a:xfrm rot="291600">
              <a:off x="5568840" y="1742400"/>
              <a:ext cx="2009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适用于：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反应物为固态和液态，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反应不需加热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30" name="Group 9"/>
          <p:cNvGrpSpPr/>
          <p:nvPr/>
        </p:nvGrpSpPr>
        <p:grpSpPr>
          <a:xfrm>
            <a:off x="2921040" y="3941280"/>
            <a:ext cx="4521240" cy="2632680"/>
            <a:chOff x="2921040" y="3941280"/>
            <a:chExt cx="4521240" cy="2632680"/>
          </a:xfrm>
        </p:grpSpPr>
        <p:sp>
          <p:nvSpPr>
            <p:cNvPr id="131" name="AutoShape 10"/>
            <p:cNvSpPr/>
            <p:nvPr/>
          </p:nvSpPr>
          <p:spPr>
            <a:xfrm rot="952200">
              <a:off x="3048120" y="4495320"/>
              <a:ext cx="4267080" cy="1523880"/>
            </a:xfrm>
            <a:prstGeom prst="wedgeEllipseCallout">
              <a:avLst>
                <a:gd name="adj1" fmla="val -54351"/>
                <a:gd name="adj2" fmla="val 76041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Text Box 11"/>
            <p:cNvSpPr/>
            <p:nvPr/>
          </p:nvSpPr>
          <p:spPr>
            <a:xfrm rot="952200">
              <a:off x="4392360" y="4662000"/>
              <a:ext cx="1460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适用于：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反应物为固态，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反应需加热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3" name="Text Box 12"/>
          <p:cNvSpPr/>
          <p:nvPr/>
        </p:nvSpPr>
        <p:spPr>
          <a:xfrm>
            <a:off x="5019120" y="9144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物的状态和反应条件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4" name="Group 14"/>
          <p:cNvGrpSpPr/>
          <p:nvPr/>
        </p:nvGrpSpPr>
        <p:grpSpPr>
          <a:xfrm>
            <a:off x="533520" y="1447920"/>
            <a:ext cx="3290760" cy="2881080"/>
            <a:chOff x="533520" y="1447920"/>
            <a:chExt cx="3290760" cy="2881080"/>
          </a:xfrm>
        </p:grpSpPr>
        <p:pic>
          <p:nvPicPr>
            <p:cNvPr id="135" name="Picture 4" descr="pic_48615"/>
            <p:cNvPicPr/>
            <p:nvPr/>
          </p:nvPicPr>
          <p:blipFill>
            <a:blip r:embed="rId2"/>
            <a:srcRect l="54026" t="1021" r="24538" b="80735"/>
            <a:stretch/>
          </p:blipFill>
          <p:spPr>
            <a:xfrm>
              <a:off x="533520" y="1447920"/>
              <a:ext cx="218124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3" descr="bz4"/>
            <p:cNvPicPr/>
            <p:nvPr/>
          </p:nvPicPr>
          <p:blipFill>
            <a:blip r:embed="rId3"/>
            <a:srcRect l="0" t="0" r="61260" b="0"/>
            <a:stretch/>
          </p:blipFill>
          <p:spPr>
            <a:xfrm>
              <a:off x="2514600" y="1447920"/>
              <a:ext cx="1309680" cy="288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609480" y="0"/>
            <a:ext cx="2971800" cy="3842640"/>
            <a:chOff x="609480" y="0"/>
            <a:chExt cx="2971800" cy="3842640"/>
          </a:xfrm>
        </p:grpSpPr>
        <p:pic>
          <p:nvPicPr>
            <p:cNvPr id="138" name="Picture 3" descr=""/>
            <p:cNvPicPr/>
            <p:nvPr/>
          </p:nvPicPr>
          <p:blipFill>
            <a:blip r:embed="rId1"/>
            <a:stretch/>
          </p:blipFill>
          <p:spPr>
            <a:xfrm>
              <a:off x="609480" y="0"/>
              <a:ext cx="297180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4"/>
            <p:cNvSpPr/>
            <p:nvPr/>
          </p:nvSpPr>
          <p:spPr>
            <a:xfrm>
              <a:off x="1104120" y="2895480"/>
              <a:ext cx="1887480" cy="94716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双氧水和二氧化锰</a:t>
              </a:r>
              <a:endParaRPr b="1" lang="en-US" sz="2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制氧气的实验装置</a:t>
              </a:r>
              <a:endParaRPr b="1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0" name="Group 5"/>
          <p:cNvGrpSpPr/>
          <p:nvPr/>
        </p:nvGrpSpPr>
        <p:grpSpPr>
          <a:xfrm>
            <a:off x="4495680" y="1447920"/>
            <a:ext cx="3962520" cy="4147560"/>
            <a:chOff x="4495680" y="1447920"/>
            <a:chExt cx="3962520" cy="4147560"/>
          </a:xfrm>
        </p:grpSpPr>
        <p:pic>
          <p:nvPicPr>
            <p:cNvPr id="141" name="Picture 6" descr=""/>
            <p:cNvPicPr/>
            <p:nvPr/>
          </p:nvPicPr>
          <p:blipFill>
            <a:blip r:embed="rId2"/>
            <a:stretch/>
          </p:blipFill>
          <p:spPr>
            <a:xfrm>
              <a:off x="4495680" y="1447920"/>
              <a:ext cx="396252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7"/>
            <p:cNvSpPr/>
            <p:nvPr/>
          </p:nvSpPr>
          <p:spPr>
            <a:xfrm>
              <a:off x="5599800" y="4648320"/>
              <a:ext cx="1887480" cy="94716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加热高锰酸钾</a:t>
              </a:r>
              <a:endParaRPr b="1" lang="en-US" sz="28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制氧气的实验装置</a:t>
              </a:r>
              <a:endParaRPr b="1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3" name="Line 9"/>
          <p:cNvSpPr/>
          <p:nvPr/>
        </p:nvSpPr>
        <p:spPr>
          <a:xfrm>
            <a:off x="4191120" y="30492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4" name="Group 13"/>
          <p:cNvGrpSpPr/>
          <p:nvPr/>
        </p:nvGrpSpPr>
        <p:grpSpPr>
          <a:xfrm>
            <a:off x="642960" y="4286160"/>
            <a:ext cx="3071520" cy="2214360"/>
            <a:chOff x="642960" y="4286160"/>
            <a:chExt cx="3071520" cy="2214360"/>
          </a:xfrm>
        </p:grpSpPr>
        <p:pic>
          <p:nvPicPr>
            <p:cNvPr id="145" name="Picture 14" descr="zhiqua"/>
            <p:cNvPicPr/>
            <p:nvPr/>
          </p:nvPicPr>
          <p:blipFill>
            <a:blip r:embed="rId3"/>
            <a:stretch/>
          </p:blipFill>
          <p:spPr>
            <a:xfrm>
              <a:off x="642960" y="4286160"/>
              <a:ext cx="1660320" cy="22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5" descr="zhiqub"/>
            <p:cNvPicPr/>
            <p:nvPr/>
          </p:nvPicPr>
          <p:blipFill>
            <a:blip r:embed="rId4"/>
            <a:stretch/>
          </p:blipFill>
          <p:spPr>
            <a:xfrm>
              <a:off x="2219040" y="4286160"/>
              <a:ext cx="1495440" cy="221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pic_48613"/>
          <p:cNvPicPr/>
          <p:nvPr/>
        </p:nvPicPr>
        <p:blipFill>
          <a:blip r:embed="rId1"/>
          <a:srcRect l="9800" t="54805" r="66086" b="31751"/>
          <a:stretch/>
        </p:blipFill>
        <p:spPr>
          <a:xfrm>
            <a:off x="304920" y="762120"/>
            <a:ext cx="2361960" cy="183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pic_48613"/>
          <p:cNvPicPr/>
          <p:nvPr/>
        </p:nvPicPr>
        <p:blipFill>
          <a:blip r:embed="rId2"/>
          <a:srcRect l="76804" t="54805" r="12478" b="31751"/>
          <a:stretch/>
        </p:blipFill>
        <p:spPr>
          <a:xfrm>
            <a:off x="5105520" y="4114800"/>
            <a:ext cx="104436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pic_48613"/>
          <p:cNvPicPr/>
          <p:nvPr/>
        </p:nvPicPr>
        <p:blipFill>
          <a:blip r:embed="rId3"/>
          <a:srcRect l="47322" t="54805" r="39282" b="31751"/>
          <a:stretch/>
        </p:blipFill>
        <p:spPr>
          <a:xfrm>
            <a:off x="395280" y="4221000"/>
            <a:ext cx="1306440" cy="1828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873000" y="1666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收集装置的选择依据：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327680" y="2590920"/>
            <a:ext cx="7293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水法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00840" y="6172200"/>
            <a:ext cx="127800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下排空气法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867920" y="6172200"/>
            <a:ext cx="127800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上排空气法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4" name="Group 9"/>
          <p:cNvGrpSpPr/>
          <p:nvPr/>
        </p:nvGrpSpPr>
        <p:grpSpPr>
          <a:xfrm>
            <a:off x="1752480" y="3962520"/>
            <a:ext cx="2895840" cy="2286000"/>
            <a:chOff x="1752480" y="3962520"/>
            <a:chExt cx="2895840" cy="2286000"/>
          </a:xfrm>
        </p:grpSpPr>
        <p:sp>
          <p:nvSpPr>
            <p:cNvPr id="155" name="AutoShape 10"/>
            <p:cNvSpPr/>
            <p:nvPr/>
          </p:nvSpPr>
          <p:spPr>
            <a:xfrm>
              <a:off x="1752480" y="3962520"/>
              <a:ext cx="2895840" cy="2286000"/>
            </a:xfrm>
            <a:prstGeom prst="wedgeEllipseCallout">
              <a:avLst>
                <a:gd name="adj1" fmla="val -56416"/>
                <a:gd name="adj2" fmla="val 3819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658240" y="4146480"/>
              <a:ext cx="1278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适用于：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气体的密度比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空气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小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，且不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与空气中任何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成分反应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57" name="Group 12"/>
          <p:cNvGrpSpPr/>
          <p:nvPr/>
        </p:nvGrpSpPr>
        <p:grpSpPr>
          <a:xfrm>
            <a:off x="2895480" y="762120"/>
            <a:ext cx="4267440" cy="1523880"/>
            <a:chOff x="2895480" y="762120"/>
            <a:chExt cx="4267440" cy="1523880"/>
          </a:xfrm>
        </p:grpSpPr>
        <p:sp>
          <p:nvSpPr>
            <p:cNvPr id="158" name="AutoShape 13"/>
            <p:cNvSpPr/>
            <p:nvPr/>
          </p:nvSpPr>
          <p:spPr>
            <a:xfrm>
              <a:off x="2895480" y="762120"/>
              <a:ext cx="4267440" cy="1523880"/>
            </a:xfrm>
            <a:prstGeom prst="wedgeEllipseCallout">
              <a:avLst>
                <a:gd name="adj1" fmla="val -54351"/>
                <a:gd name="adj2" fmla="val 76041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4237200" y="838080"/>
              <a:ext cx="2009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适用于：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气体难溶于水或不易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溶于水，且不与水反应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60" name="Group 15"/>
          <p:cNvGrpSpPr/>
          <p:nvPr/>
        </p:nvGrpSpPr>
        <p:grpSpPr>
          <a:xfrm>
            <a:off x="6248520" y="3886200"/>
            <a:ext cx="2895480" cy="2286000"/>
            <a:chOff x="6248520" y="3886200"/>
            <a:chExt cx="2895480" cy="2286000"/>
          </a:xfrm>
        </p:grpSpPr>
        <p:sp>
          <p:nvSpPr>
            <p:cNvPr id="161" name="AutoShape 16"/>
            <p:cNvSpPr/>
            <p:nvPr/>
          </p:nvSpPr>
          <p:spPr>
            <a:xfrm>
              <a:off x="6248520" y="3886200"/>
              <a:ext cx="2895480" cy="2286000"/>
            </a:xfrm>
            <a:prstGeom prst="wedgeEllipseCallout">
              <a:avLst>
                <a:gd name="adj1" fmla="val -51152"/>
                <a:gd name="adj2" fmla="val 39861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Text Box 17"/>
            <p:cNvSpPr/>
            <p:nvPr/>
          </p:nvSpPr>
          <p:spPr>
            <a:xfrm>
              <a:off x="6705720" y="4114800"/>
              <a:ext cx="236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适用于：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气体的密度比空气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大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，且不与空气中任何成分反应</a:t>
              </a:r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63" name="Oval 18"/>
          <p:cNvSpPr/>
          <p:nvPr/>
        </p:nvSpPr>
        <p:spPr>
          <a:xfrm>
            <a:off x="3429000" y="2362320"/>
            <a:ext cx="358128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排水法优点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收集的气体较纯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便于观察气体是否已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收集满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6278040" y="106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气体的溶解性，气体的密度。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3"/>
          <p:cNvSpPr/>
          <p:nvPr/>
        </p:nvSpPr>
        <p:spPr>
          <a:xfrm>
            <a:off x="1221840" y="500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实验装置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5" name="组合 21"/>
          <p:cNvGrpSpPr/>
          <p:nvPr/>
        </p:nvGrpSpPr>
        <p:grpSpPr>
          <a:xfrm>
            <a:off x="1714680" y="2786040"/>
            <a:ext cx="6113160" cy="4071960"/>
            <a:chOff x="1714680" y="2786040"/>
            <a:chExt cx="6113160" cy="4071960"/>
          </a:xfrm>
        </p:grpSpPr>
        <p:pic>
          <p:nvPicPr>
            <p:cNvPr id="46" name="图片 19" descr="u=1599428628,4211286804&amp;fm=23&amp;gp=0.jpg"/>
            <p:cNvPicPr/>
            <p:nvPr/>
          </p:nvPicPr>
          <p:blipFill>
            <a:blip r:embed="rId1"/>
            <a:stretch/>
          </p:blipFill>
          <p:spPr>
            <a:xfrm>
              <a:off x="1990800" y="2786040"/>
              <a:ext cx="5468760" cy="38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Line 12"/>
            <p:cNvSpPr/>
            <p:nvPr/>
          </p:nvSpPr>
          <p:spPr>
            <a:xfrm flipH="1">
              <a:off x="5239080" y="3125160"/>
              <a:ext cx="43920" cy="37328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" name="Text Box 4"/>
            <p:cNvSpPr/>
            <p:nvPr/>
          </p:nvSpPr>
          <p:spPr>
            <a:xfrm>
              <a:off x="3714840" y="3500280"/>
              <a:ext cx="75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Text Box 4"/>
            <p:cNvSpPr/>
            <p:nvPr/>
          </p:nvSpPr>
          <p:spPr>
            <a:xfrm>
              <a:off x="2214720" y="3643200"/>
              <a:ext cx="75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1714680" y="5214960"/>
              <a:ext cx="75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Text Box 4"/>
            <p:cNvSpPr/>
            <p:nvPr/>
          </p:nvSpPr>
          <p:spPr>
            <a:xfrm>
              <a:off x="5239080" y="4618440"/>
              <a:ext cx="75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Text Box 4"/>
            <p:cNvSpPr/>
            <p:nvPr/>
          </p:nvSpPr>
          <p:spPr>
            <a:xfrm>
              <a:off x="6500880" y="4572000"/>
              <a:ext cx="89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Text Box 4"/>
            <p:cNvSpPr/>
            <p:nvPr/>
          </p:nvSpPr>
          <p:spPr>
            <a:xfrm>
              <a:off x="6929640" y="5857920"/>
              <a:ext cx="89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4" name="Text Box 8"/>
          <p:cNvSpPr/>
          <p:nvPr/>
        </p:nvSpPr>
        <p:spPr>
          <a:xfrm>
            <a:off x="571680" y="407196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黑体"/>
              </a:rPr>
              <a:t>气体发生装置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5" name="组合 29"/>
          <p:cNvGrpSpPr/>
          <p:nvPr/>
        </p:nvGrpSpPr>
        <p:grpSpPr>
          <a:xfrm>
            <a:off x="3929040" y="1095480"/>
            <a:ext cx="4876920" cy="2140560"/>
            <a:chOff x="3929040" y="1095480"/>
            <a:chExt cx="4876920" cy="2140560"/>
          </a:xfrm>
        </p:grpSpPr>
        <p:sp>
          <p:nvSpPr>
            <p:cNvPr id="56" name="Text Box 3"/>
            <p:cNvSpPr/>
            <p:nvPr/>
          </p:nvSpPr>
          <p:spPr>
            <a:xfrm>
              <a:off x="4005000" y="1171440"/>
              <a:ext cx="4800960" cy="2064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66"/>
                  </a:solidFill>
                  <a:latin typeface="Times New Roman"/>
                </a:rPr>
                <a:t>A__________B_________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66"/>
                  </a:solidFill>
                  <a:latin typeface="Times New Roman"/>
                </a:rPr>
                <a:t>C__________D_________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66"/>
                  </a:solidFill>
                  <a:latin typeface="Times New Roman"/>
                </a:rPr>
                <a:t>E___________F_________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Text Box 4"/>
            <p:cNvSpPr/>
            <p:nvPr/>
          </p:nvSpPr>
          <p:spPr>
            <a:xfrm>
              <a:off x="4233600" y="116208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试 管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Text Box 5"/>
            <p:cNvSpPr/>
            <p:nvPr/>
          </p:nvSpPr>
          <p:spPr>
            <a:xfrm>
              <a:off x="6443640" y="109548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铁架台</a:t>
              </a:r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Text Box 6"/>
            <p:cNvSpPr/>
            <p:nvPr/>
          </p:nvSpPr>
          <p:spPr>
            <a:xfrm>
              <a:off x="4005000" y="1781280"/>
              <a:ext cx="274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酒精灯</a:t>
              </a:r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215040" y="178128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导 管</a:t>
              </a:r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Text Box 8"/>
            <p:cNvSpPr/>
            <p:nvPr/>
          </p:nvSpPr>
          <p:spPr>
            <a:xfrm>
              <a:off x="3929040" y="2543400"/>
              <a:ext cx="266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集气瓶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Text Box 9"/>
            <p:cNvSpPr/>
            <p:nvPr/>
          </p:nvSpPr>
          <p:spPr>
            <a:xfrm>
              <a:off x="6443640" y="246708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水槽</a:t>
              </a:r>
              <a:endParaRPr b="1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3" name="Text Box 8"/>
          <p:cNvSpPr/>
          <p:nvPr/>
        </p:nvSpPr>
        <p:spPr>
          <a:xfrm>
            <a:off x="7715160" y="407196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黑体"/>
              </a:rPr>
              <a:t>气体收集装置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500040" y="1500120"/>
            <a:ext cx="2928960" cy="1191240"/>
          </a:xfrm>
          <a:prstGeom prst="rect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黑体"/>
              </a:rPr>
              <a:t>【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黑体"/>
              </a:rPr>
              <a:t>思考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黑体"/>
              </a:rPr>
              <a:t>】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实验装置中，哪部分是气体的发生装置，哪部分是气体的收集装置？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24000" y="1557360"/>
            <a:ext cx="8435880" cy="58140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3f9"/>
                </a:solidFill>
                <a:latin typeface="Arial"/>
                <a:ea typeface="黑体"/>
              </a:rPr>
              <a:t>【</a:t>
            </a:r>
            <a:r>
              <a:rPr b="1" lang="zh-CN" sz="3200" spc="-1" strike="noStrike">
                <a:solidFill>
                  <a:srgbClr val="eff3f9"/>
                </a:solidFill>
                <a:latin typeface="Arial"/>
                <a:ea typeface="黑体"/>
              </a:rPr>
              <a:t>思考</a:t>
            </a:r>
            <a:r>
              <a:rPr b="1" lang="en-US" sz="3200" spc="-1" strike="noStrike">
                <a:solidFill>
                  <a:srgbClr val="eff3f9"/>
                </a:solidFill>
                <a:latin typeface="Arial"/>
                <a:ea typeface="黑体"/>
              </a:rPr>
              <a:t>】</a:t>
            </a:r>
            <a:r>
              <a:rPr b="1" lang="zh-CN" sz="3200" spc="-1" strike="noStrike">
                <a:solidFill>
                  <a:srgbClr val="eff3f9"/>
                </a:solidFill>
                <a:latin typeface="Verdana"/>
              </a:rPr>
              <a:t>实验室可用加热高锰酸钾的方法制取氧气。如何将仪器组装成一套合理的实验装置呢？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50920" y="549360"/>
            <a:ext cx="5833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一、实验仪器的组装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24000" y="3645000"/>
            <a:ext cx="7993080" cy="58140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3f9"/>
                </a:solidFill>
                <a:latin typeface="Arial"/>
                <a:ea typeface="黑体"/>
              </a:rPr>
              <a:t>【</a:t>
            </a:r>
            <a:r>
              <a:rPr b="1" lang="zh-CN" sz="3200" spc="-1" strike="noStrike">
                <a:solidFill>
                  <a:srgbClr val="eff3f9"/>
                </a:solidFill>
                <a:latin typeface="Arial"/>
                <a:ea typeface="黑体"/>
              </a:rPr>
              <a:t>仪器组装原则</a:t>
            </a:r>
            <a:r>
              <a:rPr b="1" lang="en-US" sz="3200" spc="-1" strike="noStrike">
                <a:solidFill>
                  <a:srgbClr val="eff3f9"/>
                </a:solidFill>
                <a:latin typeface="Arial"/>
                <a:ea typeface="黑体"/>
              </a:rPr>
              <a:t>】</a:t>
            </a:r>
            <a:r>
              <a:rPr b="1" lang="zh-CN" sz="3200" spc="-1" strike="noStrike">
                <a:solidFill>
                  <a:srgbClr val="eff3f9"/>
                </a:solidFill>
                <a:latin typeface="宋体"/>
              </a:rPr>
              <a:t>先下后上，先左后右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287280" y="620640"/>
            <a:ext cx="6229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ff3f9"/>
                </a:solidFill>
                <a:latin typeface="Arial"/>
                <a:ea typeface="隶书"/>
              </a:rPr>
              <a:t>二、实验中的注意事项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250920" y="1413000"/>
            <a:ext cx="586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ff3f9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eff3f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eff3f9"/>
                </a:solidFill>
                <a:latin typeface="黑体"/>
                <a:ea typeface="黑体"/>
              </a:rPr>
              <a:t>）怎样检查装置的气密性？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Picture 1028" descr="pic_32590"/>
          <p:cNvPicPr/>
          <p:nvPr/>
        </p:nvPicPr>
        <p:blipFill>
          <a:blip r:embed="rId1"/>
          <a:stretch/>
        </p:blipFill>
        <p:spPr>
          <a:xfrm>
            <a:off x="324000" y="2365200"/>
            <a:ext cx="3384360" cy="2432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1" name="qmx1.avi" descr=""/>
          <p:cNvPicPr/>
          <p:nvPr/>
        </p:nvPicPr>
        <p:blipFill>
          <a:blip r:embed="rId2"/>
          <a:stretch/>
        </p:blipFill>
        <p:spPr>
          <a:xfrm>
            <a:off x="5076720" y="2311560"/>
            <a:ext cx="3328920" cy="2485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30"/>
          <p:cNvSpPr/>
          <p:nvPr/>
        </p:nvSpPr>
        <p:spPr>
          <a:xfrm>
            <a:off x="324000" y="5294160"/>
            <a:ext cx="8424720" cy="58140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3f9"/>
                </a:solidFill>
                <a:latin typeface="Arial"/>
                <a:ea typeface="黑体"/>
              </a:rPr>
              <a:t>【</a:t>
            </a:r>
            <a:r>
              <a:rPr b="1" lang="zh-CN" sz="3200" spc="-1" strike="noStrike">
                <a:solidFill>
                  <a:srgbClr val="eff3f9"/>
                </a:solidFill>
                <a:latin typeface="Arial"/>
                <a:ea typeface="黑体"/>
              </a:rPr>
              <a:t>原理</a:t>
            </a:r>
            <a:r>
              <a:rPr b="1" lang="en-US" sz="3200" spc="-1" strike="noStrike">
                <a:solidFill>
                  <a:srgbClr val="eff3f9"/>
                </a:solidFill>
                <a:latin typeface="Arial"/>
                <a:ea typeface="黑体"/>
              </a:rPr>
              <a:t>】</a:t>
            </a:r>
            <a:r>
              <a:rPr b="1" lang="zh-CN" sz="3200" spc="-1" strike="noStrike">
                <a:solidFill>
                  <a:srgbClr val="eff3f9"/>
                </a:solidFill>
                <a:latin typeface="宋体"/>
              </a:rPr>
              <a:t>升高温度，使试管内空气受热膨胀。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029"/>
          <p:cNvSpPr/>
          <p:nvPr/>
        </p:nvSpPr>
        <p:spPr>
          <a:xfrm>
            <a:off x="428760" y="3857760"/>
            <a:ext cx="756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防止加热时高锰酸钾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粉末进入导管。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4" name="Group 1033"/>
          <p:cNvGrpSpPr/>
          <p:nvPr/>
        </p:nvGrpSpPr>
        <p:grpSpPr>
          <a:xfrm>
            <a:off x="357120" y="2428920"/>
            <a:ext cx="8410320" cy="3886200"/>
            <a:chOff x="357120" y="2428920"/>
            <a:chExt cx="8410320" cy="3886200"/>
          </a:xfrm>
        </p:grpSpPr>
        <p:sp>
          <p:nvSpPr>
            <p:cNvPr id="75" name="Text Box 1028"/>
            <p:cNvSpPr/>
            <p:nvPr/>
          </p:nvSpPr>
          <p:spPr>
            <a:xfrm>
              <a:off x="357120" y="2428920"/>
              <a:ext cx="77054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   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（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）用高锰酸钾制氧气试管口为什么要放一团棉花？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76" name="Picture 1030" descr="pic_32588"/>
            <p:cNvPicPr/>
            <p:nvPr/>
          </p:nvPicPr>
          <p:blipFill>
            <a:blip r:embed="rId1"/>
            <a:srcRect l="4394" t="0" r="6095" b="0"/>
            <a:stretch/>
          </p:blipFill>
          <p:spPr>
            <a:xfrm>
              <a:off x="5767200" y="3953160"/>
              <a:ext cx="30002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Oval 1031"/>
            <p:cNvSpPr/>
            <p:nvPr/>
          </p:nvSpPr>
          <p:spPr>
            <a:xfrm>
              <a:off x="6910200" y="4943520"/>
              <a:ext cx="304920" cy="304920"/>
            </a:xfrm>
            <a:prstGeom prst="ellipse">
              <a:avLst/>
            </a:prstGeom>
            <a:noFill/>
            <a:ln w="572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8" name="Rectangle 2"/>
          <p:cNvSpPr/>
          <p:nvPr/>
        </p:nvSpPr>
        <p:spPr>
          <a:xfrm>
            <a:off x="571680" y="633240"/>
            <a:ext cx="788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）如何向试管中装入高锰酸钾粉末？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071880" y="1500120"/>
            <a:ext cx="4572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一斜二送三直立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7"/>
          <p:cNvSpPr/>
          <p:nvPr/>
        </p:nvSpPr>
        <p:spPr>
          <a:xfrm>
            <a:off x="380880" y="533520"/>
            <a:ext cx="56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收集氧气方法：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1571760" y="1428840"/>
            <a:ext cx="25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 水 法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Picture 8" descr="1"/>
          <p:cNvPicPr/>
          <p:nvPr/>
        </p:nvPicPr>
        <p:blipFill>
          <a:blip r:embed="rId1"/>
          <a:stretch/>
        </p:blipFill>
        <p:spPr>
          <a:xfrm>
            <a:off x="5802480" y="1143000"/>
            <a:ext cx="2585880" cy="1714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"/>
          <p:cNvSpPr/>
          <p:nvPr/>
        </p:nvSpPr>
        <p:spPr>
          <a:xfrm>
            <a:off x="1214280" y="464976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排水法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当集气瓶中的水排完，水面上有气泡出现时。证明已收集满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357200" y="276228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向上排空气法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714680" y="333360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氧气密度比空气大）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Picture 8" descr="复件 收集方法"/>
          <p:cNvPicPr/>
          <p:nvPr/>
        </p:nvPicPr>
        <p:blipFill>
          <a:blip r:embed="rId2"/>
          <a:stretch/>
        </p:blipFill>
        <p:spPr>
          <a:xfrm>
            <a:off x="6072120" y="2928960"/>
            <a:ext cx="2857680" cy="2471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1143000" y="5357880"/>
            <a:ext cx="40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向上排空气法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将带火星的木条放在集气瓶口，若木条复燃，证明已收集满。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8" name="Picture 11" descr="xm1"/>
          <p:cNvPicPr/>
          <p:nvPr/>
        </p:nvPicPr>
        <p:blipFill>
          <a:blip r:embed="rId3"/>
          <a:stretch/>
        </p:blipFill>
        <p:spPr>
          <a:xfrm>
            <a:off x="5286240" y="5000760"/>
            <a:ext cx="1084320" cy="1517400"/>
          </a:xfrm>
          <a:prstGeom prst="rect">
            <a:avLst/>
          </a:prstGeom>
          <a:ln w="0">
            <a:noFill/>
          </a:ln>
        </p:spPr>
      </p:pic>
      <p:sp>
        <p:nvSpPr>
          <p:cNvPr id="89" name="左大括号 14"/>
          <p:cNvSpPr/>
          <p:nvPr/>
        </p:nvSpPr>
        <p:spPr>
          <a:xfrm>
            <a:off x="857160" y="1643040"/>
            <a:ext cx="571680" cy="1440000"/>
          </a:xfrm>
          <a:custGeom>
            <a:avLst/>
            <a:gdLst>
              <a:gd name="textAreaLeft" fmla="*/ 365400 w 571680"/>
              <a:gd name="textAreaRight" fmla="*/ 572040 w 571680"/>
              <a:gd name="textAreaTop" fmla="*/ 14760 h 1440000"/>
              <a:gd name="textAreaBottom" fmla="*/ 142524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7"/>
                  <a:pt x="10800" y="714"/>
                </a:cubicBezTo>
                <a:lnTo>
                  <a:pt x="10800" y="10086"/>
                </a:lnTo>
                <a:cubicBezTo>
                  <a:pt x="10800" y="10443"/>
                  <a:pt x="5400" y="10800"/>
                  <a:pt x="0" y="10800"/>
                </a:cubicBezTo>
                <a:cubicBezTo>
                  <a:pt x="5400" y="10800"/>
                  <a:pt x="10800" y="11157"/>
                  <a:pt x="10800" y="11514"/>
                </a:cubicBezTo>
                <a:lnTo>
                  <a:pt x="10800" y="20886"/>
                </a:lnTo>
                <a:cubicBezTo>
                  <a:pt x="10800" y="21243"/>
                  <a:pt x="16200" y="21600"/>
                  <a:pt x="21600" y="21600"/>
                </a:cubicBezTo>
              </a:path>
            </a:pathLst>
          </a:custGeom>
          <a:solidFill>
            <a:srgbClr val="d9d9d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785960" y="2071800"/>
            <a:ext cx="38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氧气不易容于水）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85840" y="3857760"/>
            <a:ext cx="56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验满方法：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692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）导管口开始有气泡时，为什么不能立即收集？什么时候开始收集？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826920" y="350028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刚开始排出的是管内的空气，使收集的气体不纯净。当气泡均匀连续放出时，就可以收集了。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85840" y="214200"/>
            <a:ext cx="6626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实验结束时为什么要先从水槽中取出导管，后熄灭酒精灯？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71680" y="1285920"/>
            <a:ext cx="7684920" cy="58140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ff3f9"/>
                </a:solidFill>
                <a:latin typeface="Arial"/>
              </a:rPr>
              <a:t>先撤导管，后灭酒精灯的目的：防止水槽中水倒吸回热的试管，使试管炸裂。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285840" y="2428920"/>
            <a:ext cx="860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收集满氧气的集气瓶为什么要正立放在桌面上？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57120" y="3500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答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因为氧气的密度比空气的密度大，倒放会使氧气从瓶口与玻璃片的缝隙中跑掉。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714240" y="4603680"/>
            <a:ext cx="2060640" cy="2254320"/>
            <a:chOff x="714240" y="4603680"/>
            <a:chExt cx="2060640" cy="2254320"/>
          </a:xfrm>
        </p:grpSpPr>
        <p:pic>
          <p:nvPicPr>
            <p:cNvPr id="99" name="Picture 5" descr="呼出的气体"/>
            <p:cNvPicPr/>
            <p:nvPr/>
          </p:nvPicPr>
          <p:blipFill>
            <a:blip r:embed="rId1"/>
            <a:stretch/>
          </p:blipFill>
          <p:spPr>
            <a:xfrm>
              <a:off x="714240" y="4603680"/>
              <a:ext cx="2060640" cy="22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6"/>
            <p:cNvSpPr/>
            <p:nvPr/>
          </p:nvSpPr>
          <p:spPr>
            <a:xfrm>
              <a:off x="1528920" y="5827680"/>
              <a:ext cx="647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4143240" y="4714920"/>
            <a:ext cx="2060280" cy="1967040"/>
            <a:chOff x="4143240" y="4714920"/>
            <a:chExt cx="2060280" cy="1967040"/>
          </a:xfrm>
        </p:grpSpPr>
        <p:pic>
          <p:nvPicPr>
            <p:cNvPr id="102" name="Picture 8" descr="呼出的气体"/>
            <p:cNvPicPr/>
            <p:nvPr/>
          </p:nvPicPr>
          <p:blipFill>
            <a:blip r:embed="rId2"/>
            <a:srcRect l="0" t="0" r="0" b="12743"/>
            <a:stretch/>
          </p:blipFill>
          <p:spPr>
            <a:xfrm flipH="1" rot="10800000">
              <a:off x="4143240" y="4714920"/>
              <a:ext cx="2060280" cy="19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9"/>
            <p:cNvSpPr/>
            <p:nvPr/>
          </p:nvSpPr>
          <p:spPr>
            <a:xfrm>
              <a:off x="5051160" y="5419800"/>
              <a:ext cx="647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>
              <a:off x="4403520" y="622800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4714560" y="5776920"/>
            <a:ext cx="1081440" cy="1081080"/>
            <a:chOff x="4714560" y="5776920"/>
            <a:chExt cx="1081440" cy="1081080"/>
          </a:xfrm>
        </p:grpSpPr>
        <p:sp>
          <p:nvSpPr>
            <p:cNvPr id="106" name="Line 12"/>
            <p:cNvSpPr/>
            <p:nvPr/>
          </p:nvSpPr>
          <p:spPr>
            <a:xfrm>
              <a:off x="4714920" y="577692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Line 13"/>
            <p:cNvSpPr/>
            <p:nvPr/>
          </p:nvSpPr>
          <p:spPr>
            <a:xfrm flipH="1">
              <a:off x="4714560" y="577692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 spd="med">
    <p:zoom dir="in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3880" y="428760"/>
            <a:ext cx="494532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）操作步骤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71680" y="1714680"/>
            <a:ext cx="838800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连接仪器，并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装置的气密性　　　　　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将高锰酸钾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装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入试管里，塞好带导管的单孔塞　　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试管口略向下倾斜，并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铁架台上　　　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将集气瓶装满水倒立在水槽中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⑤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点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燃酒精灯，给试管加热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⑥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等气泡连续均匀放出后再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收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集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⑦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收集完毕后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先将导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移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出水面，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灭酒精灯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332000" y="630864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428920" y="5715000"/>
            <a:ext cx="59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茶、庄、定、点、收、利、息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7" descr="141"/>
          <p:cNvPicPr/>
          <p:nvPr/>
        </p:nvPicPr>
        <p:blipFill>
          <a:blip r:embed="rId1"/>
          <a:stretch/>
        </p:blipFill>
        <p:spPr>
          <a:xfrm>
            <a:off x="755640" y="6021360"/>
            <a:ext cx="914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6T01:38:49Z</dcterms:created>
  <dc:creator>【课件站www.kjzhan.com】~中小学ppt课件免费下载站~【课件站www.kjzhan.com】~中小学ppt课件免费下载站~【课件站www.kjzhan.com】~中小学ppt课件免费下载站~~中小学ppt课件免费下载站~【课件站www.kjzhan.com】~中小学ppt课件免费下载站~【课件站www.kjzhan.com】~中小学ppt课件免费下载站~【课件站www.kjzhan.com】~</dc:creator>
  <dc:description>【课件站www.kjzhan.com】~中小学ppt课件免费下载站~【课件站www.kjzhan.com】~中小学ppt课件免费下载站~【课件站www.kjzhan.com】~中小学ppt课件免费下载站~~中小学ppt课件免费下载站~【课件站www.kjzhan.com】~中小学ppt课件免费下载站~【课件站www.kjzhan.com】~中小学ppt课件免费下载站~【课件站www.kjzhan.com】~</dc:description>
  <cp:keywords>【课件站www.kjzhan.com】~中小学ppt课件免费下载站~【课件站www.kjzhan.com】~中小学ppt课件免费下载站~【课件站www.kjzhan.com】~中小学ppt课件免费下载站~~中小学ppt课件免费下载站~【课件站www.kjzhan.com】~中小学ppt课件免费下载站~【课件站www.kjzhan.com】~中小学ppt课件免费下载站~【课件站www.kjzhan.com】~</cp:keywords>
  <dc:language>en-US</dc:language>
  <cp:lastModifiedBy>lenovo</cp:lastModifiedBy>
  <dcterms:modified xsi:type="dcterms:W3CDTF">2016-08-20T06:12:20Z</dcterms:modified>
  <cp:revision>61</cp:revision>
  <dc:subject>【课件站www.kjzhan.com】~中小学ppt课件免费下载站~【课件站www.kjzhan.com】~中小学ppt课件免费下载站~【课件站www.kjzhan.com】~中小学ppt课件免费下载站~~中小学ppt课件免费下载站~【课件站www.kjzhan.com】~中小学ppt课件免费下载站~【课件站www.kjzhan.com】~中小学ppt课件免费下载站~【课件站www.kjzhan.com】~</dc:subject>
  <dc:title>【课件站www.kjzhan.com】~中小学ppt课件免费下载站~【课件站www.kjzhan.com】~中小学ppt课件免费下载站~【课件站www.kjzhan.com】~中小学ppt课件免费下载站~~中小学ppt课件免费下载站~【课件站www.kjzhan.com】~中小学ppt课件免费下载站~【课件站www.kjzhan.com】~中小学ppt课件免费下载站~【课件站www.kjzhan.com】~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